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81CD-181A-4118-BAA1-3AD4ABFF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6BEE-C916-4938-88E2-E76FC711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17A9-ACBA-45BA-8D39-DF62961C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4144-CA2B-4D53-9412-06147944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EF4A-B155-45EC-B2D6-BA88B791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277C-DE51-46DF-A20F-11DC7A94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D173-3996-48CE-98ED-493B252E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99EB-2142-4C0E-8FF8-0AB4FB59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3103-C944-4198-A210-7739ECF1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0D01-992F-49C2-A7C7-75E230B4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F95C-E68C-490E-8F24-8481D201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5249-C70D-4105-9088-D426CF97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FD9F-9A07-4018-B121-9369D2ACD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russianflag.jpg"/>
          <p:cNvPicPr/>
          <p:nvPr/>
        </p:nvPicPr>
        <p:blipFill>
          <a:blip r:embed="rId1"/>
          <a:stretch/>
        </p:blipFill>
        <p:spPr>
          <a:xfrm>
            <a:off x="152280" y="228600"/>
            <a:ext cx="8610840" cy="6477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empus Sans ITC"/>
              </a:rPr>
              <a:t>Present Day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BY: Lucia Buzzell, Sacha Ivanov, and Hunter Weinbe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7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0099"/>
                </a:solidFill>
                <a:uFillTx/>
                <a:latin typeface="Tempus Sans ITC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Tempus Sans ITC"/>
              </a:rPr>
              <a:t>Russia is both a democracy and federal re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Tempus Sans ITC"/>
              </a:rPr>
              <a:t>Power is divided between national; and state governments with a president who leads the 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dym itry"/>
          <p:cNvPicPr/>
          <p:nvPr/>
        </p:nvPicPr>
        <p:blipFill>
          <a:blip r:embed="rId1"/>
          <a:stretch/>
        </p:blipFill>
        <p:spPr>
          <a:xfrm>
            <a:off x="4876920" y="3886200"/>
            <a:ext cx="2262240" cy="2590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vladimeer"/>
          <p:cNvPicPr/>
          <p:nvPr/>
        </p:nvPicPr>
        <p:blipFill>
          <a:blip r:embed="rId2"/>
          <a:stretch/>
        </p:blipFill>
        <p:spPr>
          <a:xfrm>
            <a:off x="1154160" y="3886200"/>
            <a:ext cx="1488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5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bbe0e3"/>
                </a:solidFill>
                <a:uFillTx/>
                <a:latin typeface="Tempus Sans ITC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Tempus Sans ITC"/>
              </a:rPr>
              <a:t>Russia is a 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Tempus Sans ITC"/>
              </a:rPr>
              <a:t>Government no longer sets prices on food or other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Tempus Sans ITC"/>
              </a:rPr>
              <a:t>Higher prices make it harder to buy necessities, like food and clothes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-685800" y="335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" name="Picture 7" descr="russiancurrency.bmp"/>
          <p:cNvPicPr/>
          <p:nvPr/>
        </p:nvPicPr>
        <p:blipFill>
          <a:blip r:embed="rId1"/>
          <a:stretch/>
        </p:blipFill>
        <p:spPr>
          <a:xfrm>
            <a:off x="4443480" y="4575240"/>
            <a:ext cx="251460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humidcontinenta;.jpg"/>
          <p:cNvPicPr/>
          <p:nvPr/>
        </p:nvPicPr>
        <p:blipFill>
          <a:blip r:embed="rId1"/>
          <a:stretch/>
        </p:blipFill>
        <p:spPr>
          <a:xfrm>
            <a:off x="4724280" y="1371600"/>
            <a:ext cx="4038840" cy="2666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teppe.jpg"/>
          <p:cNvPicPr/>
          <p:nvPr/>
        </p:nvPicPr>
        <p:blipFill>
          <a:blip r:embed="rId2"/>
          <a:stretch/>
        </p:blipFill>
        <p:spPr>
          <a:xfrm>
            <a:off x="4724280" y="4068720"/>
            <a:ext cx="4010040" cy="2789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subarctoic.jpg"/>
          <p:cNvPicPr/>
          <p:nvPr/>
        </p:nvPicPr>
        <p:blipFill>
          <a:blip r:embed="rId3"/>
          <a:stretch/>
        </p:blipFill>
        <p:spPr>
          <a:xfrm>
            <a:off x="533520" y="4191120"/>
            <a:ext cx="3886200" cy="2797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tundra.jpg"/>
          <p:cNvPicPr/>
          <p:nvPr/>
        </p:nvPicPr>
        <p:blipFill>
          <a:blip r:embed="rId4"/>
          <a:stretch/>
        </p:blipFill>
        <p:spPr>
          <a:xfrm>
            <a:off x="457200" y="1333440"/>
            <a:ext cx="3962520" cy="2846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empus Sans ITC"/>
              </a:rPr>
              <a:t>Climate Types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Tundra- </a:t>
            </a:r>
            <a:r>
              <a:rPr b="1" lang="en-US" sz="1800" spc="-1" strike="noStrike">
                <a:solidFill>
                  <a:srgbClr val="ffff00"/>
                </a:solidFill>
                <a:latin typeface="Tempus Sans ITC"/>
              </a:rPr>
              <a:t>vast treeless plain in high latitude climates in which only several of the top inches of ice thaws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Subarctic- </a:t>
            </a: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pattern of weather characterized by bitter winters and cool sum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00600" y="137124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empus Sans ITC"/>
              </a:rPr>
              <a:t>Humid Continental- </a:t>
            </a:r>
            <a:r>
              <a:rPr b="1" lang="en-US" sz="1600" spc="-1" strike="noStrike">
                <a:solidFill>
                  <a:srgbClr val="c00000"/>
                </a:solidFill>
                <a:latin typeface="Tempus Sans ITC"/>
              </a:rPr>
              <a:t>pattern of weather characterized by cold long snowy winters and hot short sum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empus Sans ITC"/>
              </a:rPr>
              <a:t>Steppe- </a:t>
            </a:r>
            <a:r>
              <a:rPr b="1" lang="en-US" sz="1800" spc="-1" strike="noStrike">
                <a:solidFill>
                  <a:srgbClr val="002060"/>
                </a:solidFill>
                <a:latin typeface="Tempus Sans ITC"/>
              </a:rPr>
              <a:t>dry grassland often found on the edges of a de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47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5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1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6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9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empus Sans ITC"/>
              </a:rPr>
              <a:t>Med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Life expectancy has f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Rising number in both cancer and lung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Pollution causes harm to Russians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inhaler.jpg"/>
          <p:cNvPicPr/>
          <p:nvPr/>
        </p:nvPicPr>
        <p:blipFill>
          <a:blip r:embed="rId1"/>
          <a:stretch/>
        </p:blipFill>
        <p:spPr>
          <a:xfrm rot="727200">
            <a:off x="5937120" y="4067280"/>
            <a:ext cx="1971720" cy="2324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smokestack.jpg"/>
          <p:cNvPicPr/>
          <p:nvPr/>
        </p:nvPicPr>
        <p:blipFill>
          <a:blip r:embed="rId2"/>
          <a:stretch/>
        </p:blipFill>
        <p:spPr>
          <a:xfrm rot="21121200">
            <a:off x="1182240" y="4149720"/>
            <a:ext cx="281952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skates"/>
          <p:cNvPicPr/>
          <p:nvPr/>
        </p:nvPicPr>
        <p:blipFill>
          <a:blip r:embed="rId1"/>
          <a:stretch/>
        </p:blipFill>
        <p:spPr>
          <a:xfrm>
            <a:off x="4648320" y="5210280"/>
            <a:ext cx="1752480" cy="1647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tent"/>
          <p:cNvPicPr/>
          <p:nvPr/>
        </p:nvPicPr>
        <p:blipFill>
          <a:blip r:embed="rId2"/>
          <a:stretch/>
        </p:blipFill>
        <p:spPr>
          <a:xfrm>
            <a:off x="2819520" y="5486400"/>
            <a:ext cx="1533240" cy="9507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Tempus Sans ITC"/>
              </a:rPr>
              <a:t>Dai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empus Sans ITC"/>
              </a:rPr>
              <a:t>Russians enjoy, hiking, camping, and mountain climb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empus Sans ITC"/>
              </a:rPr>
              <a:t>They love soccer and ten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empus Sans ITC"/>
              </a:rPr>
              <a:t>Also enjoy skiing, skating, and playing ice hoc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occer ball.jpg"/>
          <p:cNvPicPr/>
          <p:nvPr/>
        </p:nvPicPr>
        <p:blipFill>
          <a:blip r:embed="rId3"/>
          <a:stretch/>
        </p:blipFill>
        <p:spPr>
          <a:xfrm>
            <a:off x="533520" y="4724280"/>
            <a:ext cx="1838160" cy="18385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8"/>
          <p:cNvSpPr/>
          <p:nvPr/>
        </p:nvSpPr>
        <p:spPr>
          <a:xfrm>
            <a:off x="4467240" y="3911760"/>
            <a:ext cx="326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2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2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30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Tempus Sans ITC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empus Sans ITC"/>
              </a:rPr>
              <a:t>90% of population speaks Russ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empus Sans ITC"/>
              </a:rPr>
              <a:t>High amount of ethnic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empus Sans ITC"/>
              </a:rPr>
              <a:t>In rural areas most people live in wood ho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empus Sans ITC"/>
              </a:rPr>
              <a:t>Suburbs are develo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empus Sans ITC"/>
              </a:rPr>
              <a:t>75% of people live in c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st"/>
          <p:cNvPicPr/>
          <p:nvPr/>
        </p:nvPicPr>
        <p:blipFill>
          <a:blip r:embed="rId1"/>
          <a:stretch/>
        </p:blipFill>
        <p:spPr>
          <a:xfrm>
            <a:off x="5257800" y="5054760"/>
            <a:ext cx="220968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54:35Z</dcterms:created>
  <dc:creator> </dc:creator>
  <dc:description/>
  <dc:language>en-US</dc:language>
  <cp:lastModifiedBy> </cp:lastModifiedBy>
  <dcterms:modified xsi:type="dcterms:W3CDTF">2010-12-21T00:40:41Z</dcterms:modified>
  <cp:revision>12</cp:revision>
  <dc:subject/>
  <dc:title>Present Day Russia</dc:title>
</cp:coreProperties>
</file>